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39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41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86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5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2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213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" name=""/>
          <p:cNvSpPr/>
          <p:nvPr/>
        </p:nvSpPr>
        <p:spPr>
          <a:xfrm>
            <a:off x="1604880" y="453960"/>
            <a:ext cx="601524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217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459640" y="655308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58320" y="1143000"/>
            <a:ext cx="160776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ACTIO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44040" y="2438280"/>
            <a:ext cx="24462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CONDITION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45840" y="4648320"/>
            <a:ext cx="244296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STANDARD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17845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Maintain Commitment and Obligation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3200400"/>
            <a:ext cx="769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Given Fund Control Record, Fund Allowance Document and/or Resource Distribution Document and commitment doc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5105520"/>
            <a:ext cx="7925040" cy="16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Maintain commitment and obligation records</a:t>
            </a: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 as stated in DoDFMR, Volume 14 with no more than a 30% error r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04640" y="222120"/>
            <a:ext cx="849636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____                                                                  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 ____                                                                    FUND CONTROL RECORD                                                      UNIT/ACTIVITY 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67360" y="6370560"/>
            <a:ext cx="353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459640" y="655308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257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3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7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5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3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0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431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3" name=""/>
          <p:cNvSpPr/>
          <p:nvPr/>
        </p:nvSpPr>
        <p:spPr>
          <a:xfrm>
            <a:off x="1604880" y="453960"/>
            <a:ext cx="601524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435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459640" y="655308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658320" y="1143000"/>
            <a:ext cx="160776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ACTIO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44040" y="2438280"/>
            <a:ext cx="24462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CONDITION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45840" y="4648320"/>
            <a:ext cx="244296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STANDARD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17845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Maintain Commitment and Obligation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2120" y="3200400"/>
            <a:ext cx="769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Given Fund Control Record, Fund Allowance Document and/or Resource Distribution Document and commitment doc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38080" y="5105520"/>
            <a:ext cx="7925040" cy="16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Maintain commitment and obligation records</a:t>
            </a: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 as stated in DoDFMR, Volume 14 with no more than a 30% error r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2T07:49:28Z</dcterms:created>
  <dc:creator>MICHAEL E. HALSEY</dc:creator>
  <dc:description/>
  <dc:language>en-US</dc:language>
  <cp:lastModifiedBy>Administrator</cp:lastModifiedBy>
  <cp:lastPrinted>2000-03-17T15:31:31Z</cp:lastPrinted>
  <dcterms:modified xsi:type="dcterms:W3CDTF">2005-03-22T20:31:42Z</dcterms:modified>
  <cp:revision>28</cp:revision>
  <dc:subject/>
  <dc:title>BAS</dc:title>
</cp:coreProperties>
</file>